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6.jpeg" ContentType="image/jpeg"/>
  <Override PartName="/ppt/media/image7.wmf" ContentType="image/x-wmf"/>
  <Override PartName="/ppt/media/image11.jpeg" ContentType="image/jpeg"/>
  <Override PartName="/ppt/media/image10.jpeg" ContentType="image/jpeg"/>
  <Override PartName="/ppt/media/image1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8DB-49B5-4D09-8852-FC3D8BB27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03A6-9D1B-42BF-A5D6-83E0B0D41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CA10-1E42-43DD-808D-F82CD69AB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76B6-D62E-4E9B-A6B0-718602D97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A780-BE04-471F-AE0C-3BBF7169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768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513840" y="213804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8218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768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513840" y="4624920"/>
            <a:ext cx="271008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06A-DB29-4A5C-B6F8-45BAF3FE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220F-522B-4B3A-A256-F15FB5A03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66EB-D58E-453F-B4B7-151CA049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0880" y="69984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FC21-09FA-49E1-8097-3BEF9C7C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45AE-7DF1-400A-A331-7D9C08D42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040" y="462492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F9DC8-0077-4B24-A410-F909786B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040" y="2138040"/>
            <a:ext cx="410724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21880" y="4624920"/>
            <a:ext cx="841716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E853-C448-464B-B812-F19A817E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DFC0065-C48C-4BBD-ACD1-874ABB86B94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резентация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821880" y="197964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О ТЕМЕ: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о АЛЖИР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      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Подготовили учащиеся 7 класса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           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Times New Roman"/>
              </a:rPr>
              <a:t>Руководитель: Булыгина Л.Н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600" spc="-1" strike="noStrike">
                <a:solidFill>
                  <a:srgbClr val="99284c"/>
                </a:solidFill>
                <a:latin typeface="Arial"/>
              </a:rPr>
              <a:t>                     </a:t>
            </a:r>
            <a:r>
              <a:rPr b="1" i="1" lang="ru-RU" sz="1600" spc="-1" strike="noStrike">
                <a:solidFill>
                  <a:srgbClr val="99284c"/>
                </a:solidFill>
                <a:latin typeface="Arial"/>
              </a:rPr>
              <a:t>г.Тольятти МОУ сш № 9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Образование и здравоохран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821880" y="218268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Алжир добился заметных достижений в области образования. В стране функционируют 8 университетов , 170 других высших учебных заведений, 700 центров профессионально-технического образования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284c"/>
                </a:solidFill>
                <a:latin typeface="Arial"/>
              </a:rPr>
              <a:t>С 1974 года введено бесплатное медицинское обслужива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0720" y="360360"/>
            <a:ext cx="860760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Климат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68320" y="1534680"/>
            <a:ext cx="4890960" cy="530388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 fontScale="99000"/>
          </a:bodyPr>
          <a:p>
            <a:pPr marL="3394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333333"/>
                </a:solidFill>
                <a:latin typeface="Arial"/>
              </a:rPr>
              <a:t>Климат Северного Алжира — субтропический средиземноморский. Климат Алжирской Сахары — тропический пустынный, осадков менее 50 мм в год.Речная сеть развита слабо.Растительный покров и почвы Северного Алжира типично средиземноморские. Среди лесов и кустарников выделяются массивы пробкового дуба, в полупустыне — трава альфа.</a:t>
            </a:r>
            <a:endParaRPr b="0" lang="en-US" sz="2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5759280" y="2519280"/>
            <a:ext cx="3483000" cy="3390840"/>
          </a:xfrm>
          <a:prstGeom prst="rect">
            <a:avLst/>
          </a:prstGeom>
          <a:ln w="0">
            <a:noFill/>
          </a:ln>
        </p:spPr>
      </p:pic>
    </p:spTree>
  </p:cSld>
  <p:transition spd="med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4186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116" name="Picture 3" descr="file:///C:/Documents%20and%20Settings/Слава70/Рабочий%20стол/Алжир/Алжир/11.jpg"/>
          <p:cNvPicPr/>
          <p:nvPr/>
        </p:nvPicPr>
        <p:blipFill>
          <a:blip r:embed=""/>
          <a:stretch/>
        </p:blipFill>
        <p:spPr>
          <a:xfrm>
            <a:off x="469800" y="360360"/>
            <a:ext cx="9069480" cy="6832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D:\Documents and Settings\Дом\Рабочий стол\algeria.jpg"/>
          <p:cNvPicPr/>
          <p:nvPr/>
        </p:nvPicPr>
        <p:blipFill>
          <a:blip r:embed="rId1"/>
          <a:stretch/>
        </p:blipFill>
        <p:spPr>
          <a:xfrm>
            <a:off x="539640" y="565200"/>
            <a:ext cx="8786880" cy="6429240"/>
          </a:xfrm>
          <a:prstGeom prst="rect">
            <a:avLst/>
          </a:prstGeom>
          <a:ln w="0">
            <a:noFill/>
          </a:ln>
        </p:spPr>
      </p:pic>
      <p:sp>
        <p:nvSpPr>
          <p:cNvPr id="118" name="TextBox 5"/>
          <p:cNvSpPr/>
          <p:nvPr/>
        </p:nvSpPr>
        <p:spPr>
          <a:xfrm>
            <a:off x="4483080" y="4851360"/>
            <a:ext cx="45684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План характеристики страны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41716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1. Географическое положение страны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2. Государственные символы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3. Государственное устройство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4. Экономик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5. Населе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6. Образование и здравоохранение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7. Природ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еографическое полаж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822240" y="2160720"/>
            <a:ext cx="4757760" cy="432252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35400" y="2138400"/>
            <a:ext cx="410688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503280" indent="-432000">
              <a:lnSpc>
                <a:spcPct val="93000"/>
              </a:lnSpc>
              <a:buClr>
                <a:srgbClr val="99284c"/>
              </a:buClr>
              <a:buSzPct val="75000"/>
              <a:buFont typeface="Wingdings" charset="2"/>
              <a:buChar char="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Arial"/>
              </a:rPr>
              <a:t>Находится Алжир на севере Африки. Одно из крупнейших государств континента. Общая площадь страны 2 381 740 км²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еный флаг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graphicFrame>
        <p:nvGraphicFramePr>
          <p:cNvPr id="88" name="Object 2"/>
          <p:cNvGraphicFramePr/>
          <p:nvPr/>
        </p:nvGraphicFramePr>
        <p:xfrm>
          <a:off x="822240" y="2138400"/>
          <a:ext cx="4106880" cy="4762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2240" y="2138400"/>
                    <a:ext cx="4106880" cy="47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20720" y="23396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sans-serif;Arial"/>
              </a:rPr>
              <a:t>   </a:t>
            </a:r>
            <a:r>
              <a:rPr b="0" lang="ru-RU" sz="2800" spc="-1" strike="noStrike">
                <a:solidFill>
                  <a:srgbClr val="333333"/>
                </a:solidFill>
                <a:latin typeface="sans-serif;Arial"/>
              </a:rPr>
              <a:t>С</a:t>
            </a:r>
            <a:r>
              <a:rPr b="0" lang="en-US" sz="2800" spc="-1" strike="noStrike">
                <a:solidFill>
                  <a:srgbClr val="333333"/>
                </a:solidFill>
                <a:latin typeface="sans-serif;Arial"/>
              </a:rPr>
              <a:t>остоит из двух вертикальных полос одинаковой ширины зелёного и белого цвета. В центре расположены красная звезда и полумесяц. Флаг принят 3 июля 1962 года</a:t>
            </a: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3"/>
          <a:stretch/>
        </p:blipFill>
        <p:spPr>
          <a:xfrm>
            <a:off x="4826160" y="2565360"/>
            <a:ext cx="4564080" cy="34196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ерб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135400" y="2138040"/>
            <a:ext cx="410688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2540160" y="2136600"/>
            <a:ext cx="4397040" cy="44136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Государственное устройство: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1239840" y="2138400"/>
            <a:ext cx="3273480" cy="476244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858920" y="1979640"/>
            <a:ext cx="438300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Официальное название — Алжи́рская Наро́дная Демократи́ческая Респу́блик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Глава государства —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Президент. С апреля 1999 президент —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314004"/>
                </a:solidFill>
                <a:latin typeface="Arial"/>
              </a:rPr>
              <a:t>Абдельазиз Бутефлика.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4498920" y="4859280"/>
            <a:ext cx="469800" cy="828720"/>
          </a:xfrm>
          <a:prstGeom prst="rect">
            <a:avLst/>
          </a:prstGeom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</p:pic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607600" cy="126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          </a:t>
            </a: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Экономика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825120" y="1779480"/>
            <a:ext cx="8418600" cy="4338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                          </a:t>
            </a:r>
            <a:r>
              <a:rPr b="0" lang="ru-RU" sz="3200" spc="-1" strike="noStrike">
                <a:solidFill>
                  <a:srgbClr val="800000"/>
                </a:solidFill>
                <a:latin typeface="Arial"/>
              </a:rPr>
              <a:t>Основа экономики Алжира                                               -газ и нефть. Они дают 30 % ВВП, 60 %           доходной части госбюджета, 95 % экспортной выручки. По запасам газа Алжир занимает 8-е место в мире и 4-е                   место в мире по экспорту газа.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Picture 4" descr="D:\Documents and Settings\Дом\Рабочий стол\picture-390h.jpg"/>
          <p:cNvPicPr/>
          <p:nvPr/>
        </p:nvPicPr>
        <p:blipFill>
          <a:blip r:embed="rId1"/>
          <a:stretch/>
        </p:blipFill>
        <p:spPr>
          <a:xfrm>
            <a:off x="754200" y="636480"/>
            <a:ext cx="3071520" cy="25034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40880" y="69984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Валюта   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3" name="TextBox 3"/>
          <p:cNvSpPr/>
          <p:nvPr/>
        </p:nvSpPr>
        <p:spPr>
          <a:xfrm>
            <a:off x="6193800" y="2208240"/>
            <a:ext cx="21985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лжирский ДИ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D:\Documents and Settings\Дом\Рабочий стол\223997b.jpg"/>
          <p:cNvPicPr/>
          <p:nvPr/>
        </p:nvPicPr>
        <p:blipFill>
          <a:blip r:embed="rId1"/>
          <a:stretch/>
        </p:blipFill>
        <p:spPr>
          <a:xfrm>
            <a:off x="896760" y="1708200"/>
            <a:ext cx="4029120" cy="3905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D:\Documents and Settings\Дом\Рабочий стол\243233b.jpg"/>
          <p:cNvPicPr/>
          <p:nvPr/>
        </p:nvPicPr>
        <p:blipFill>
          <a:blip r:embed="rId2"/>
          <a:stretch/>
        </p:blipFill>
        <p:spPr>
          <a:xfrm>
            <a:off x="5611680" y="1565280"/>
            <a:ext cx="3500640" cy="5286240"/>
          </a:xfrm>
          <a:prstGeom prst="rect">
            <a:avLst/>
          </a:prstGeom>
          <a:ln w="0">
            <a:noFill/>
          </a:ln>
        </p:spPr>
      </p:pic>
      <p:sp>
        <p:nvSpPr>
          <p:cNvPr id="106" name="TextBox 7"/>
          <p:cNvSpPr/>
          <p:nvPr/>
        </p:nvSpPr>
        <p:spPr>
          <a:xfrm>
            <a:off x="1197720" y="6208560"/>
            <a:ext cx="2390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Алжирский  ДИН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1240" y="744120"/>
            <a:ext cx="860760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52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000" spc="-1" strike="noStrike">
                <a:solidFill>
                  <a:srgbClr val="99284c"/>
                </a:solidFill>
                <a:latin typeface="Arial"/>
              </a:rPr>
              <a:t>Население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21880" y="2182680"/>
            <a:ext cx="84186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2736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Численность населения — 34,2 млн 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Годовой прирост — 1,2 % (1,8 рождений на женщину)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Этнический состав — арабы 83 %, берберы 16 %, прочие менее 1 %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Языки — арабский официальный, берберские диалекты, распространён французский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Религия — мусульмане-сунниты 99 %, прочие 1 %.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100" spc="-1" strike="noStrike">
                <a:solidFill>
                  <a:srgbClr val="4c1900"/>
                </a:solidFill>
                <a:latin typeface="Arial"/>
              </a:rPr>
              <a:t>Грамотность — 79 % мужчин, 60 % женщин</a:t>
            </a:r>
            <a:endParaRPr b="0" lang="en-US" sz="31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6:55:12Z</dcterms:created>
  <dc:creator>SamLab.ws</dc:creator>
  <dc:description/>
  <dc:language>en-US</dc:language>
  <cp:lastModifiedBy>Admin</cp:lastModifiedBy>
  <dcterms:modified xsi:type="dcterms:W3CDTF">2010-01-10T12:37:59Z</dcterms:modified>
  <cp:revision>17</cp:revision>
  <dc:subject/>
  <dc:title>Учавствовали в презентации:</dc:title>
</cp:coreProperties>
</file>